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E9A-D271-44EB-87AF-955A2F84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9F0-2B63-43AE-8CFF-1D34C5BE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AF5-EB91-4783-948D-B10614B6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9C4-D724-444A-80EB-7D5381B1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655D-67B8-4035-B3E8-7E698A7A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1AF4-9C47-457E-A3F4-0D833F6E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6CAE-FC4C-4664-AA68-93E19A46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E2B3-FC0A-4B38-AB2A-390C5BA5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12C9-8AB4-4356-8E77-244E1FE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E6E-1426-4689-9251-56F9CCBF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7A1F-CB69-404B-A584-0B2F52A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FF0-1320-4B77-B82F-0E66241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2C67-3BD0-4155-9242-CCDE6E02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9832-3701-4936-A789-F65A128E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D8CA-BA4A-48CC-9FDA-16FCD0C6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11CA-DCFF-435E-87B3-A2648DC0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5A49-551C-456B-916D-722DF50F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B2F-6088-400B-B4E2-05D61208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863-CF57-4F1B-9BD2-3743C24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A26-15DC-45C3-A871-4DA837BC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4CC-6CCE-409D-AFFA-68B4BE5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D8D-4404-4754-999E-C7887E6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CC4-BB1E-40C3-86A4-E0818687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364-BCAB-41E9-A2C8-69F64947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03CD-66AF-4B0A-90A4-5C88A9DD53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9091-1C01-42F1-BC17-892B10B5499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4360" y="549360"/>
            <a:ext cx="806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ahoma"/>
              </a:rPr>
              <a:t>Мастер-класс по теме: «Лабораторные работы по математике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16360" y="3789360"/>
            <a:ext cx="40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ь математики МОУ СОШ №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. Белин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ионова И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Матье Хемакерзом-Бельгия"/>
          <p:cNvPicPr/>
          <p:nvPr/>
        </p:nvPicPr>
        <p:blipFill>
          <a:blip r:embed="rId1"/>
          <a:stretch/>
        </p:blipFill>
        <p:spPr>
          <a:xfrm>
            <a:off x="2227320" y="404640"/>
            <a:ext cx="4689360" cy="60487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Mebius%20XXII.jpg"/>
          <p:cNvPicPr/>
          <p:nvPr/>
        </p:nvPicPr>
        <p:blipFill>
          <a:blip r:embed="rId1"/>
          <a:srcRect l="0" t="8331" r="0" b="11458"/>
          <a:stretch/>
        </p:blipFill>
        <p:spPr>
          <a:xfrm>
            <a:off x="1714680" y="142920"/>
            <a:ext cx="5500440" cy="6613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Мебиус1"/>
          <p:cNvPicPr/>
          <p:nvPr/>
        </p:nvPicPr>
        <p:blipFill>
          <a:blip r:embed="rId1"/>
          <a:stretch/>
        </p:blipFill>
        <p:spPr>
          <a:xfrm>
            <a:off x="2124000" y="189000"/>
            <a:ext cx="4765680" cy="63579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optic_6"/>
          <p:cNvPicPr/>
          <p:nvPr/>
        </p:nvPicPr>
        <p:blipFill>
          <a:blip r:embed="rId1"/>
          <a:stretch/>
        </p:blipFill>
        <p:spPr>
          <a:xfrm>
            <a:off x="303120" y="1400040"/>
            <a:ext cx="8537760" cy="405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ractals_work_of_jean_constant"/>
          <p:cNvPicPr/>
          <p:nvPr/>
        </p:nvPicPr>
        <p:blipFill>
          <a:blip r:embed="rId1"/>
          <a:stretch/>
        </p:blipFill>
        <p:spPr>
          <a:xfrm>
            <a:off x="2401920" y="166680"/>
            <a:ext cx="4340160" cy="65246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11-1.gif"/>
          <p:cNvPicPr/>
          <p:nvPr/>
        </p:nvPicPr>
        <p:blipFill>
          <a:blip r:embed="rId1"/>
          <a:stretch/>
        </p:blipFill>
        <p:spPr>
          <a:xfrm>
            <a:off x="1928880" y="142920"/>
            <a:ext cx="5214960" cy="6559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лист мёбиуса 1"/>
          <p:cNvPicPr/>
          <p:nvPr/>
        </p:nvPicPr>
        <p:blipFill>
          <a:blip r:embed="rId1"/>
          <a:stretch/>
        </p:blipFill>
        <p:spPr>
          <a:xfrm>
            <a:off x="1403280" y="1413000"/>
            <a:ext cx="6473880" cy="48560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Лист Мебиуса в природе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spd="med" advTm="1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vselennaya_kak_dodekaedr_0.jpg">
            <a:hlinkClick r:id="rId1" action="ppaction://hlinksldjump"/>
          </p:cNvPr>
          <p:cNvPicPr/>
          <p:nvPr/>
        </p:nvPicPr>
        <p:blipFill>
          <a:blip r:embed="rId2"/>
          <a:srcRect l="0" t="0" r="0" b="8126"/>
          <a:stretch/>
        </p:blipFill>
        <p:spPr>
          <a:xfrm>
            <a:off x="357120" y="428760"/>
            <a:ext cx="8390160" cy="59292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1440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c000"/>
                </a:solidFill>
                <a:latin typeface="Tahoma"/>
              </a:rPr>
              <a:t>ЛИСТ МЁБИУСА</a:t>
            </a:r>
            <a:endParaRPr b="0" lang="en-US" sz="12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1" name="Рисунок 3" descr="vselennaya_kak_dodekaedr_0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357120" y="428760"/>
            <a:ext cx="3133800" cy="22143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mebius"/>
          <p:cNvPicPr/>
          <p:nvPr/>
        </p:nvPicPr>
        <p:blipFill>
          <a:blip r:embed="rId1"/>
          <a:stretch/>
        </p:blipFill>
        <p:spPr>
          <a:xfrm>
            <a:off x="414360" y="905040"/>
            <a:ext cx="4157640" cy="504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1623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густ Фердинанд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ёбиу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1790-1868)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4" name="Picture 4" descr="mebius"/>
          <p:cNvPicPr/>
          <p:nvPr/>
        </p:nvPicPr>
        <p:blipFill>
          <a:blip r:embed="rId2"/>
          <a:stretch/>
        </p:blipFill>
        <p:spPr>
          <a:xfrm>
            <a:off x="5508720" y="4221000"/>
            <a:ext cx="2832120" cy="19306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История открытия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437000"/>
            <a:ext cx="8805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относится к числу «математических неожиданностей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казывают, что открыть свой «лист» Мёбиусу помогла служанка, сшившая однажды неправильно концы 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лист мебиуса 3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29466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получается очень просто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лейте из бумажной полоски кольцо, только перед склеиванием поверните один конец на 18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Если полоска бумаги была длинной, то такой поворот мог произойти и случайно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лист мёбиуса 2"/>
          <p:cNvPicPr/>
          <p:nvPr/>
        </p:nvPicPr>
        <p:blipFill>
          <a:blip r:embed="rId1"/>
          <a:stretch/>
        </p:blipFill>
        <p:spPr>
          <a:xfrm>
            <a:off x="1547640" y="3860640"/>
            <a:ext cx="6350040" cy="27306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mebius"/>
          <p:cNvPicPr/>
          <p:nvPr/>
        </p:nvPicPr>
        <p:blipFill>
          <a:blip r:embed="rId1"/>
          <a:srcRect l="10798" t="10798" r="9584" b="4589"/>
          <a:stretch/>
        </p:blipFill>
        <p:spPr>
          <a:xfrm>
            <a:off x="785880" y="428760"/>
            <a:ext cx="7607160" cy="6064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pic>
        <p:nvPicPr>
          <p:cNvPr id="101" name="Kalimba.mp3" descr=""/>
          <p:cNvPicPr/>
          <p:nvPr/>
        </p:nvPicPr>
        <p:blipFill>
          <a:blip r:embed="rId2"/>
          <a:stretch/>
        </p:blipFill>
        <p:spPr>
          <a:xfrm>
            <a:off x="8459640" y="6203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mebius9.jpg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551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0_12b51_4a45a684_XL.jpg"/>
          <p:cNvPicPr/>
          <p:nvPr/>
        </p:nvPicPr>
        <p:blipFill>
          <a:blip r:embed="rId1"/>
          <a:srcRect l="21237" t="0" r="0" b="0"/>
          <a:stretch/>
        </p:blipFill>
        <p:spPr>
          <a:xfrm>
            <a:off x="1071720" y="142920"/>
            <a:ext cx="6858000" cy="65307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80px-MobiusStrip-01.png"/>
          <p:cNvPicPr/>
          <p:nvPr/>
        </p:nvPicPr>
        <p:blipFill>
          <a:blip r:embed="rId1"/>
          <a:stretch/>
        </p:blipFill>
        <p:spPr>
          <a:xfrm>
            <a:off x="1214280" y="714240"/>
            <a:ext cx="6858000" cy="54104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1:12Z</dcterms:created>
  <dc:creator>комп</dc:creator>
  <dc:description/>
  <dc:language>en-US</dc:language>
  <cp:lastModifiedBy>1</cp:lastModifiedBy>
  <dcterms:modified xsi:type="dcterms:W3CDTF">2012-03-30T01:34:57Z</dcterms:modified>
  <cp:revision>62</cp:revision>
  <dc:subject/>
  <dc:title>ЛИСТ МЕБИУСА</dc:title>
</cp:coreProperties>
</file>